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4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205-7631-472F-8231-DAF1DB49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40B-86F0-42B7-9AB9-1215035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F52-83B9-46F7-ABC1-826EB750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06F-BC94-4D62-B424-1C8B2B56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D71-C276-4E8A-9249-3C2E0F75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641-8216-4746-B51F-E5E39EC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3E1-9A2F-44E8-9FB6-45F2890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2F0-52D9-4D6C-B7BB-FAF0E5F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555-96A0-4F84-B46A-B69064D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ED6-E7C3-4D8C-86E1-6E17B45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053-FDA8-4D8F-95E4-C5F99CE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632-B385-4A93-898D-F7AC552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D6A-D11A-4FB0-AA37-A5A4524C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and the Underground railr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81880" cy="26668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Produce your own piece of art to represent one aspect of Harriet Tubman’s extraordinary life or the Underground railroad in general: in the style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in on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your piece of high quality art work on the nice paper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lored in and 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 see Mr. Wright for adv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1917, Died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New York when he was 13 and enrolled in art class in Har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ed out of HighSchool at 16 but stuck with the art cl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internationally famous for his paintings showing the various struggles of African-Americans in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you dr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f all you should draft in pencil on rough paper - we have a very limited supply of good paper: kindly donated by the art depar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complicated: look through your notes on Harriet Tubman and the underground railroad and decide upon a ‘theme’: the final picture will be quite small so you don’t want it to be too crow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y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1573200"/>
            <a:ext cx="421668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3881520" cy="608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622680" cy="56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6514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31520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68580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6T02:22:26Z</dcterms:modified>
  <cp:revision>2</cp:revision>
  <dc:subject/>
  <dc:title>Harriet Tubman and the Underground railroad</dc:title>
</cp:coreProperties>
</file>